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DC6-1523-4E41-982E-A36DD426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92D-C92A-41C2-A03A-4A26D3C9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443-6909-4916-BD07-5DBD112B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69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33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9051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69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233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AE4-424A-47E7-BCCF-738663A1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551A-F2AA-4D56-AF6A-8823BA9A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1B42-1481-4829-A2E6-48EC4571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BA42-0A5F-4DEE-8B7E-21ECADC9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DA68-BBA7-4F5B-AC36-07CB05BB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4079-13A5-4335-9F24-BF5FC5B3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1EE2-5EE5-49B2-A573-441273A1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E510-DF44-43A7-BE6D-A579D07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B77-F87F-4AC9-A3FA-873D6F21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09F6-F3AB-4226-A75F-C26BCF22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A27D-A1E9-4A1C-8011-30CB0F0E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8418-7814-4556-9EF8-89D09D74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4878-5C8B-4B7B-9EFF-5118B748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69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33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9051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069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33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8C7-43BE-4720-B700-CB6F2446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C84-3043-457E-8A38-AC10489E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289-FB77-4F23-B4CF-5464E78B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A14-6277-4B21-88BA-AD025116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325-29AF-4CB4-A1F3-C3CA40A4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983-BFAB-44EA-8DF9-BC23CA0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850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66C-1F3C-4874-9995-1A8F9179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850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051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A51-28FC-455E-A49D-F65A7F16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0"/>
            <a:ext cx="1144440" cy="6788160"/>
            <a:chOff x="77760" y="0"/>
            <a:chExt cx="1144440" cy="6788160"/>
          </a:xfrm>
        </p:grpSpPr>
        <p:grpSp>
          <p:nvGrpSpPr>
            <p:cNvPr id="1" name=""/>
            <p:cNvGrpSpPr/>
            <p:nvPr/>
          </p:nvGrpSpPr>
          <p:grpSpPr>
            <a:xfrm>
              <a:off x="77760" y="0"/>
              <a:ext cx="1069920" cy="6084720"/>
              <a:chOff x="77760" y="0"/>
              <a:chExt cx="1069920" cy="6084720"/>
            </a:xfrm>
          </p:grpSpPr>
          <p:sp>
            <p:nvSpPr>
              <p:cNvPr id="2" name=""/>
              <p:cNvSpPr/>
              <p:nvPr/>
            </p:nvSpPr>
            <p:spPr>
              <a:xfrm>
                <a:off x="77760" y="0"/>
                <a:ext cx="1069920" cy="60847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85640" y="0"/>
                <a:ext cx="276480" cy="60847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1000" y="5703840"/>
              <a:ext cx="1141200" cy="1084320"/>
              <a:chOff x="81000" y="5703840"/>
              <a:chExt cx="1141200" cy="1084320"/>
            </a:xfrm>
          </p:grpSpPr>
          <p:sp>
            <p:nvSpPr>
              <p:cNvPr id="5" name=""/>
              <p:cNvSpPr/>
              <p:nvPr/>
            </p:nvSpPr>
            <p:spPr>
              <a:xfrm>
                <a:off x="822240" y="6141960"/>
                <a:ext cx="398520" cy="24768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000" y="608652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5640" y="570384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9120" y="608652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9880" y="648504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17560" y="633888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633420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7600" y="575460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64BB-F366-49C0-A748-856B2BD4078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7760" y="0"/>
            <a:ext cx="1144440" cy="3511440"/>
            <a:chOff x="77760" y="0"/>
            <a:chExt cx="1144440" cy="3511440"/>
          </a:xfrm>
        </p:grpSpPr>
        <p:grpSp>
          <p:nvGrpSpPr>
            <p:cNvPr id="55" name=""/>
            <p:cNvGrpSpPr/>
            <p:nvPr/>
          </p:nvGrpSpPr>
          <p:grpSpPr>
            <a:xfrm>
              <a:off x="77760" y="0"/>
              <a:ext cx="1069920" cy="2819520"/>
              <a:chOff x="77760" y="0"/>
              <a:chExt cx="1069920" cy="2819520"/>
            </a:xfrm>
          </p:grpSpPr>
          <p:sp>
            <p:nvSpPr>
              <p:cNvPr id="56" name=""/>
              <p:cNvSpPr/>
              <p:nvPr/>
            </p:nvSpPr>
            <p:spPr>
              <a:xfrm>
                <a:off x="77760" y="0"/>
                <a:ext cx="1069920" cy="28195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85640" y="0"/>
                <a:ext cx="276480" cy="28195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81000" y="2427120"/>
              <a:ext cx="1141200" cy="1084320"/>
              <a:chOff x="81000" y="2427120"/>
              <a:chExt cx="1141200" cy="1084320"/>
            </a:xfrm>
          </p:grpSpPr>
          <p:sp>
            <p:nvSpPr>
              <p:cNvPr id="59" name=""/>
              <p:cNvSpPr/>
              <p:nvPr/>
            </p:nvSpPr>
            <p:spPr>
              <a:xfrm>
                <a:off x="822240" y="2865600"/>
                <a:ext cx="398520" cy="24732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000" y="280980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5640" y="242712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9120" y="280980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99880" y="320832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17560" y="306216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91960" y="305748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7600" y="247824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30C4-9DE5-486D-B0F8-E03DD525A1E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52Z</dcterms:modified>
  <cp:revision>28</cp:revision>
  <dc:subject/>
  <dc:title>幻灯片 1</dc:title>
</cp:coreProperties>
</file>